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097160"/>
            <a:ext cx="8458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9480" y="18284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09716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9480" y="409716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5280" y="182844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05480" y="182844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09716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5280" y="409716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05480" y="409716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2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9480" y="1828440"/>
            <a:ext cx="412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-360"/>
            <a:ext cx="7620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9480" y="1828440"/>
            <a:ext cx="412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09716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2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9480" y="18284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9480" y="409716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9480" y="18284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097160"/>
            <a:ext cx="8458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8284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Softool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1523880" cy="1523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15238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ктуальные вопросы информационной безопасно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Ассоциация РусКрипто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олчков Алексей Анатольевич 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езидент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lexey.volchkov@ruscrypto.ru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ww.ruscrypto.ru 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недрение стандартов по безопасности. Достижимост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152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0920" y="1700280"/>
          <a:ext cx="8713800" cy="4595760"/>
        </p:xfrm>
        <a:graphic>
          <a:graphicData uri="http://schemas.openxmlformats.org/drawingml/2006/table">
            <a:tbl>
              <a:tblPr/>
              <a:tblGrid>
                <a:gridCol w="4537080"/>
                <a:gridCol w="4176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Желание обеспечить качественную защиту информации в орган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омнитель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оздание положительного имиджа орган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тч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ыполнение формальных требований (инвесторов, акционеров, партнеров и т.д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актичес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SzPct val="10279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Желание быть не хуже друг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остижи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SzPct val="102792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своение бюдж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Безусло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ектирование. Как это делаетс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152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773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Аудит или сбор исходных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Анализ бизнес процесс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Системное проект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Обоснование инвести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Рабочее проектирова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Внедр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Обу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Сопровожд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Что такое «третий путь» 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700280"/>
            <a:ext cx="856908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916280"/>
            <a:ext cx="856944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700280"/>
            <a:ext cx="856944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773360"/>
            <a:ext cx="83534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Разработка и внедрение корпоративных стандартов – пример банковский стандар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Разработка СТП – стандартов предпри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Адаптация имеющихся стандартов к условиям Р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Формирование требований к информационной безопасности и проектирование системы управления информационной безопасности удовлетворяющей этим требовани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опросы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700280"/>
            <a:ext cx="856908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916280"/>
            <a:ext cx="856944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700280"/>
            <a:ext cx="856944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формационная безопасность сегодн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152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773360"/>
            <a:ext cx="83534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Чему учат итоги 15-ти лет развития отрас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Что актуально сегод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Как защитить свою компан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 лет, чему мы научились 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152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773360"/>
            <a:ext cx="835344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От предложений поставщиков к нуждам Заказч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От формирования рынка к формированию спро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Технические средства и защита информац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Мы умеем защищать то, что можно потрогать рук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 лет, чему нужно учиться 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152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773360"/>
            <a:ext cx="835344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Как на основе зачастую расплывчатых желаний Заказчика  создать адекватную систему информационной безопас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Что входит в понятие информационной безопасност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Как защитить бизне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ктуальные вопросы (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152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77336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Переход от требованиям по защите к требованиям по минимизации рис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Что делать со стандартами и методик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Как обеспечить непредвзятость поставщиков услу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Внутренний враг – кто он и как с ним бороть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ктуальные вопросы (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152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773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Аудит – модное направление или требование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Аутсорсинг информационной безопасности – будет ли он в Рос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ак обеспечить юридическую значимость документов при трансграничных отношения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ерспективы изменения правового регул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 чего начинается защита информац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152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773360"/>
            <a:ext cx="835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Не бойтесь специалистов и непонятных с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Понимание  собственных нуж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Формирование объективной карти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Разработка требов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Выбор партнер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 какому пути идти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152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773360"/>
            <a:ext cx="8353440" cy="38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недрение стандартов по безопас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азработка и проектирование системы безопасности под нужды предприят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ретий пу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5238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недрение стандартов по безопасности. Цели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152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773360"/>
            <a:ext cx="83534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Желание обеспечить качественную защиту информации в организ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оздание положительного имиджа организ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Выполнение формальных  требований (инвесторов, акционеров, партнеров и т.д.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Желание быть не хуже друг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своение бюдж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07:20:04Z</dcterms:created>
  <dc:creator>Волчков</dc:creator>
  <dc:description/>
  <dc:language>en-US</dc:language>
  <cp:lastModifiedBy>Алекс</cp:lastModifiedBy>
  <dcterms:modified xsi:type="dcterms:W3CDTF">2006-09-27T13:24:51Z</dcterms:modified>
  <cp:revision>36</cp:revision>
  <dc:subject/>
  <dc:title>Презентация PowerPoint</dc:title>
</cp:coreProperties>
</file>